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CAA88-F823-4461-8676-418450FD9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00674-A9C4-4521-BBC2-5D0B4E3444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DACBB-0936-42DA-AE18-086C344D3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B83AE-FD46-44D1-ABCB-358E2726C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3601A7-3FE6-4422-AF93-06FA7F814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DBB6B-3A66-49FA-82A6-1D97F66D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5DEA7-C7CA-4851-8FCA-8FABBE5CB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64A91-A051-4764-8F94-B862BB45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EA73B-3E00-4C51-A405-BD05EC13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2F626-A696-468C-928C-156F1062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7ED28-25B4-411E-9EBF-13C39E00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53539-4A2E-48C5-BAD6-BE0C35A12E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A07C51-8CF7-4DF9-87DE-BC8BF245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6D4BA6-991A-496A-B881-92CBA330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AF2E4-E22F-4DED-80B6-31FC20730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F3E69-B002-4E23-BAC2-7919469C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8F98E2-4517-46F3-881E-762C0993B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4631-3D6A-4315-8A66-8AFF506CBA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4805F-CD91-40EE-9A3A-76BA0D6B8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56D0-C2CA-4A23-860D-D2C70A8852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09ECB-8E06-43BA-B43F-41629754A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6AFA0-B623-4A14-908B-262FA5FF6F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DBD7B-9E3A-415A-89B2-08327169B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8E78C-A075-4A03-93A8-D3363B8396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7BC9-5DA7-496F-BF8D-36400CFE058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457200" y="228600"/>
            <a:ext cx="66528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2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3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6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7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8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51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52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55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6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7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8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0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1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4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7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70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73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76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79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82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85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88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91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94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97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100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103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106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109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1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112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6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117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2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123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5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126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135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0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141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3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44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6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147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49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150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160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E052C-AB44-41B6-84B3-B68CAF95D715}" type="datetime">
              <a:rPr b="0" lang="zh-CN" sz="1400" spc="-1" strike="noStrike">
                <a:solidFill>
                  <a:srgbClr val="ffcc00"/>
                </a:solidFill>
                <a:latin typeface="Arial Black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EE4C-3BA9-48D7-A9FF-F538EC23D377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54100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上海市第六人民医院 李志强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295280" y="8610480"/>
            <a:ext cx="640080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97800" cy="4535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58920" y="1628640"/>
            <a:ext cx="878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诠释部分疾病（情况）安全有效输血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424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1f08"/>
                </a:solidFill>
                <a:latin typeface="宋体"/>
              </a:rPr>
              <a:t>注意事项</a:t>
            </a:r>
            <a:r>
              <a:rPr b="1" lang="zh-CN" sz="3600" spc="-1" strike="noStrike">
                <a:solidFill>
                  <a:srgbClr val="fe1f08"/>
                </a:solidFill>
                <a:latin typeface="宋体"/>
              </a:rPr>
              <a:t>:</a:t>
            </a:r>
            <a:br>
              <a:rPr sz="3600"/>
            </a:br>
            <a:br>
              <a:rPr sz="30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补液前先采集血型鉴定与血液交叉匹配试验血样。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血型鉴定与血液交叉匹配试验需要一定时间。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恢复血容量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首选晶体液（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500-1000ml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，胶体液。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确保红细胞携氧能力，输注悬浮红细胞（血细胞容积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0.27-0.33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。 第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1h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输血量至少是失血量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40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6920" y="630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58832-E406-41F6-A757-DA92138C31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8137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2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患者女性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48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岁，因头晕乏力一年，腹胀尿少皮肤瘙痒一周入院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体检：神清，面色苍白，呼吸频率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26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次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分，心率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104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次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分，腹部膨隆，移动性浊音（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），双下肢浮肿（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2+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实验室检查：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b53g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血钾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5.6mmol/L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血肌酐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780</a:t>
            </a:r>
            <a:r>
              <a:rPr b="1" lang="el-GR" sz="3200" spc="-1" strike="noStrike">
                <a:solidFill>
                  <a:srgbClr val="af273e"/>
                </a:solidFill>
                <a:latin typeface="宋体"/>
              </a:rPr>
              <a:t>μ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mol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肾小球滤过率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15%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BA4A8-0E47-4783-AD31-1AF407CD54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2133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Ⅱ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、慢性肾功能衰竭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6858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845320" y="4395960"/>
            <a:ext cx="3298680" cy="246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3B5E-C518-4058-BD7F-CD05CE8BFC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50920" y="1125360"/>
            <a:ext cx="8640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2800" spc="-1" strike="noStrike">
                <a:solidFill>
                  <a:srgbClr val="a11001"/>
                </a:solidFill>
                <a:latin typeface="宋体"/>
              </a:rPr>
              <a:t>贫血：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a11001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小球滤过率下降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-40m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首选促红细胞生成素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血红蛋白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&lt;60g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血细胞容积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&lt;0.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伴缺氧症状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输注最佳选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-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洗涤红细胞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周输注红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位，滴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ml/kg.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640" y="724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BD3837-CE41-44F2-A295-7CE2F73668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2472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a11001"/>
                </a:solidFill>
                <a:latin typeface="宋体"/>
              </a:rPr>
              <a:t>出血：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11001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小板功能异常与数量减少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BP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x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大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0x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伴出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单采血小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-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位（多采血小板悬液至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-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位）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436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D50B6-D592-4271-BEB8-4172B487FB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424720" cy="564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3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男性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56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岁，长期饮酒史，因腹胀乏力五年，神志恍惚二天入院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体检：面色黧黑，颈部蜘蛛痣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个，腹部膨隆，肝肋下未及，脾肋下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4cm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移动性浊音（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实验室检查：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b65g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A/G↓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el-GR" sz="3200" spc="-1" strike="noStrike">
                <a:solidFill>
                  <a:srgbClr val="af273e"/>
                </a:solidFill>
                <a:latin typeface="宋体"/>
              </a:rPr>
              <a:t>γ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球蛋白↑↑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B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超：肝体积缩小，脾大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肝穿刺病理提示：肝脏组织假小叶形成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0CEE-46FC-4567-B1B3-63FEB90DB4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58560" y="2133360"/>
            <a:ext cx="87850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Ⅲ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、肝硬化（失代偿期）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9640" y="7316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6620040" y="3668760"/>
            <a:ext cx="2523960" cy="3189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5E91C-548C-4834-A1FA-A8EE7C94C1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64960" y="844200"/>
            <a:ext cx="8498160" cy="52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zh-CN" sz="3200" spc="-1" strike="noStrike">
                <a:solidFill>
                  <a:srgbClr val="a11001"/>
                </a:solidFill>
                <a:latin typeface="宋体"/>
              </a:rPr>
              <a:t>贫血：</a:t>
            </a:r>
            <a:br>
              <a:rPr sz="3200"/>
            </a:br>
            <a:r>
              <a:rPr b="1" lang="zh-CN" sz="3200" spc="-1" strike="noStrike">
                <a:solidFill>
                  <a:srgbClr val="a1100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血、营养不良、脾功能亢进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a11001"/>
                </a:solidFill>
                <a:latin typeface="宋体"/>
              </a:rPr>
              <a:t>伴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肝肾综合征、代谢性酸中毒和高血钾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输注悬浮红细胞（近期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-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）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360" y="6858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7162200" y="212400"/>
            <a:ext cx="2048400" cy="1933200"/>
            <a:chOff x="7162200" y="212400"/>
            <a:chExt cx="2048400" cy="1933200"/>
          </a:xfrm>
        </p:grpSpPr>
        <p:grpSp>
          <p:nvGrpSpPr>
            <p:cNvPr id="255" name=""/>
            <p:cNvGrpSpPr/>
            <p:nvPr/>
          </p:nvGrpSpPr>
          <p:grpSpPr>
            <a:xfrm>
              <a:off x="8052840" y="1692360"/>
              <a:ext cx="695160" cy="441360"/>
              <a:chOff x="8052840" y="1692360"/>
              <a:chExt cx="695160" cy="441360"/>
            </a:xfrm>
          </p:grpSpPr>
          <p:sp>
            <p:nvSpPr>
              <p:cNvPr id="256" name=""/>
              <p:cNvSpPr/>
              <p:nvPr/>
            </p:nvSpPr>
            <p:spPr>
              <a:xfrm>
                <a:off x="8052840" y="1692360"/>
                <a:ext cx="695160" cy="4413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302320" y="1885320"/>
                <a:ext cx="167400" cy="828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8213040" y="1073880"/>
              <a:ext cx="695520" cy="441360"/>
              <a:chOff x="8213040" y="1073880"/>
              <a:chExt cx="695520" cy="441360"/>
            </a:xfrm>
          </p:grpSpPr>
          <p:sp>
            <p:nvSpPr>
              <p:cNvPr id="259" name=""/>
              <p:cNvSpPr/>
              <p:nvPr/>
            </p:nvSpPr>
            <p:spPr>
              <a:xfrm>
                <a:off x="8213040" y="1073880"/>
                <a:ext cx="695520" cy="4413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8462880" y="1266840"/>
                <a:ext cx="167400" cy="828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7195680" y="228600"/>
              <a:ext cx="695520" cy="441360"/>
              <a:chOff x="7195680" y="228600"/>
              <a:chExt cx="695520" cy="441360"/>
            </a:xfrm>
          </p:grpSpPr>
          <p:sp>
            <p:nvSpPr>
              <p:cNvPr id="262" name=""/>
              <p:cNvSpPr/>
              <p:nvPr/>
            </p:nvSpPr>
            <p:spPr>
              <a:xfrm>
                <a:off x="7195680" y="228600"/>
                <a:ext cx="695520" cy="4413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445520" y="421560"/>
                <a:ext cx="167400" cy="828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7162200" y="212400"/>
              <a:ext cx="2048400" cy="1933200"/>
              <a:chOff x="7162200" y="212400"/>
              <a:chExt cx="2048400" cy="1933200"/>
            </a:xfrm>
          </p:grpSpPr>
          <p:grpSp>
            <p:nvGrpSpPr>
              <p:cNvPr id="265" name=""/>
              <p:cNvGrpSpPr/>
              <p:nvPr/>
            </p:nvGrpSpPr>
            <p:grpSpPr>
              <a:xfrm>
                <a:off x="7653960" y="464400"/>
                <a:ext cx="1037160" cy="646920"/>
                <a:chOff x="7653960" y="464400"/>
                <a:chExt cx="1037160" cy="64692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7653960" y="464400"/>
                  <a:ext cx="1037160" cy="646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8049960" y="700920"/>
                  <a:ext cx="205560" cy="122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7162200" y="212400"/>
                <a:ext cx="1975320" cy="1335240"/>
                <a:chOff x="7162200" y="212400"/>
                <a:chExt cx="1975320" cy="1335240"/>
              </a:xfrm>
            </p:grpSpPr>
            <p:grpSp>
              <p:nvGrpSpPr>
                <p:cNvPr id="269" name=""/>
                <p:cNvGrpSpPr/>
                <p:nvPr/>
              </p:nvGrpSpPr>
              <p:grpSpPr>
                <a:xfrm>
                  <a:off x="8271000" y="716040"/>
                  <a:ext cx="685440" cy="682920"/>
                  <a:chOff x="8271000" y="716040"/>
                  <a:chExt cx="685440" cy="68292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 rot="2711400">
                    <a:off x="8233560" y="883080"/>
                    <a:ext cx="5176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rot="2711400">
                    <a:off x="8658000" y="1152360"/>
                    <a:ext cx="2775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"/>
                <p:cNvGrpSpPr/>
                <p:nvPr/>
              </p:nvGrpSpPr>
              <p:grpSpPr>
                <a:xfrm>
                  <a:off x="8250480" y="651240"/>
                  <a:ext cx="861840" cy="659880"/>
                  <a:chOff x="8250480" y="651240"/>
                  <a:chExt cx="861840" cy="659880"/>
                </a:xfrm>
              </p:grpSpPr>
              <p:sp>
                <p:nvSpPr>
                  <p:cNvPr id="273" name=""/>
                  <p:cNvSpPr/>
                  <p:nvPr/>
                </p:nvSpPr>
                <p:spPr>
                  <a:xfrm rot="2103600">
                    <a:off x="8221680" y="826560"/>
                    <a:ext cx="64440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rot="2103600">
                    <a:off x="8750520" y="1062720"/>
                    <a:ext cx="34596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"/>
                <p:cNvGrpSpPr/>
                <p:nvPr/>
              </p:nvGrpSpPr>
              <p:grpSpPr>
                <a:xfrm>
                  <a:off x="8245800" y="638280"/>
                  <a:ext cx="881640" cy="517680"/>
                  <a:chOff x="8245800" y="638280"/>
                  <a:chExt cx="881640" cy="51768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 rot="1582800">
                    <a:off x="8233560" y="770040"/>
                    <a:ext cx="61596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 rot="1582800">
                    <a:off x="8781840" y="946800"/>
                    <a:ext cx="3308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"/>
                <p:cNvGrpSpPr/>
                <p:nvPr/>
              </p:nvGrpSpPr>
              <p:grpSpPr>
                <a:xfrm>
                  <a:off x="8242560" y="622080"/>
                  <a:ext cx="894960" cy="413640"/>
                  <a:chOff x="8242560" y="622080"/>
                  <a:chExt cx="894960" cy="41364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 rot="1080000">
                    <a:off x="8243640" y="711360"/>
                    <a:ext cx="5950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rot="1080000">
                    <a:off x="8800920" y="831960"/>
                    <a:ext cx="3196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8251560" y="608040"/>
                  <a:ext cx="843840" cy="253080"/>
                  <a:chOff x="8251560" y="608040"/>
                  <a:chExt cx="843840" cy="25308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 rot="463200">
                    <a:off x="8255160" y="644400"/>
                    <a:ext cx="548280" cy="93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rot="463200">
                    <a:off x="8791920" y="694800"/>
                    <a:ext cx="29448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8263800" y="598680"/>
                  <a:ext cx="765360" cy="108720"/>
                  <a:chOff x="8263800" y="598680"/>
                  <a:chExt cx="765360" cy="10872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 rot="21515400">
                    <a:off x="8264520" y="607320"/>
                    <a:ext cx="49824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 rot="21515400">
                    <a:off x="8760240" y="601560"/>
                    <a:ext cx="267480" cy="10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8246880" y="470160"/>
                  <a:ext cx="677160" cy="203400"/>
                  <a:chOff x="8246880" y="470160"/>
                  <a:chExt cx="677160" cy="20340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 rot="20797200">
                    <a:off x="8248320" y="559080"/>
                    <a:ext cx="43812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rot="20797200">
                    <a:off x="8680320" y="495720"/>
                    <a:ext cx="2350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7358040" y="752760"/>
                  <a:ext cx="686160" cy="683640"/>
                  <a:chOff x="7358040" y="752760"/>
                  <a:chExt cx="686160" cy="6836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 flipH="1" rot="18888600">
                    <a:off x="7562880" y="920160"/>
                    <a:ext cx="5180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rot="18888600">
                    <a:off x="7378200" y="1189440"/>
                    <a:ext cx="27792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3" name=""/>
                <p:cNvGrpSpPr/>
                <p:nvPr/>
              </p:nvGrpSpPr>
              <p:grpSpPr>
                <a:xfrm>
                  <a:off x="7187040" y="704160"/>
                  <a:ext cx="861480" cy="659880"/>
                  <a:chOff x="7187040" y="704160"/>
                  <a:chExt cx="861480" cy="6598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 rot="19496400">
                    <a:off x="7432200" y="879480"/>
                    <a:ext cx="644400" cy="1040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 rot="19496400">
                    <a:off x="7202520" y="1115640"/>
                    <a:ext cx="345960" cy="163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7171920" y="691920"/>
                  <a:ext cx="882000" cy="517680"/>
                  <a:chOff x="7171920" y="691920"/>
                  <a:chExt cx="882000" cy="5176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 flipH="1" rot="20017200">
                    <a:off x="7449120" y="824040"/>
                    <a:ext cx="616320" cy="91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45360" bIns="453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 rot="20017200">
                    <a:off x="7186680" y="1000440"/>
                    <a:ext cx="33084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7162200" y="675720"/>
                  <a:ext cx="894240" cy="413280"/>
                  <a:chOff x="7162200" y="675720"/>
                  <a:chExt cx="894240" cy="41328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 flipH="1" rot="20520000">
                    <a:off x="7460280" y="765000"/>
                    <a:ext cx="595080" cy="100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 rot="20520000">
                    <a:off x="7178400" y="885240"/>
                    <a:ext cx="319680" cy="158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7204320" y="662040"/>
                  <a:ext cx="843480" cy="252360"/>
                  <a:chOff x="7204320" y="662040"/>
                  <a:chExt cx="843480" cy="25236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 flipH="1" rot="21136800">
                    <a:off x="7495560" y="698400"/>
                    <a:ext cx="5482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 rot="21136800">
                    <a:off x="7211880" y="748800"/>
                    <a:ext cx="294480" cy="146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5" name=""/>
                <p:cNvGrpSpPr/>
                <p:nvPr/>
              </p:nvGrpSpPr>
              <p:grpSpPr>
                <a:xfrm>
                  <a:off x="7270560" y="651240"/>
                  <a:ext cx="765360" cy="109080"/>
                  <a:chOff x="7270560" y="651240"/>
                  <a:chExt cx="765360" cy="10908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 flipH="1" rot="84600">
                    <a:off x="7536240" y="659880"/>
                    <a:ext cx="498600" cy="6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 rot="84600">
                    <a:off x="7271280" y="654120"/>
                    <a:ext cx="26784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7375680" y="522720"/>
                  <a:ext cx="677160" cy="203760"/>
                  <a:chOff x="7375680" y="522720"/>
                  <a:chExt cx="677160" cy="2037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 flipH="1" rot="802800">
                    <a:off x="7612920" y="611640"/>
                    <a:ext cx="4381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 rot="802800">
                    <a:off x="7383960" y="548280"/>
                    <a:ext cx="23508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7413480" y="450720"/>
                  <a:ext cx="663120" cy="282600"/>
                  <a:chOff x="7413480" y="450720"/>
                  <a:chExt cx="663120" cy="282600"/>
                </a:xfrm>
              </p:grpSpPr>
              <p:sp>
                <p:nvSpPr>
                  <p:cNvPr id="312" name=""/>
                  <p:cNvSpPr/>
                  <p:nvPr/>
                </p:nvSpPr>
                <p:spPr>
                  <a:xfrm flipH="1" rot="1278000">
                    <a:off x="7641720" y="591840"/>
                    <a:ext cx="43740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rot="1278000">
                    <a:off x="7423920" y="489600"/>
                    <a:ext cx="23472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4" name=""/>
                <p:cNvGrpSpPr/>
                <p:nvPr/>
              </p:nvGrpSpPr>
              <p:grpSpPr>
                <a:xfrm>
                  <a:off x="7493400" y="348480"/>
                  <a:ext cx="616320" cy="396000"/>
                  <a:chOff x="7493400" y="348480"/>
                  <a:chExt cx="616320" cy="39600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 flipH="1" rot="2028600">
                    <a:off x="7689960" y="563400"/>
                    <a:ext cx="43812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 rot="2028600">
                    <a:off x="7500960" y="405000"/>
                    <a:ext cx="235080" cy="100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7" name=""/>
                <p:cNvGrpSpPr/>
                <p:nvPr/>
              </p:nvGrpSpPr>
              <p:grpSpPr>
                <a:xfrm>
                  <a:off x="7574760" y="249480"/>
                  <a:ext cx="561240" cy="482760"/>
                  <a:chOff x="7574760" y="249480"/>
                  <a:chExt cx="561240" cy="482760"/>
                </a:xfrm>
              </p:grpSpPr>
              <p:sp>
                <p:nvSpPr>
                  <p:cNvPr id="318" name=""/>
                  <p:cNvSpPr/>
                  <p:nvPr/>
                </p:nvSpPr>
                <p:spPr>
                  <a:xfrm flipH="1" rot="2664600">
                    <a:off x="7731720" y="521640"/>
                    <a:ext cx="444600" cy="6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360" bIns="1836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 rot="2664600">
                    <a:off x="7575480" y="318600"/>
                    <a:ext cx="239040" cy="10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" name=""/>
                <p:cNvGrpSpPr/>
                <p:nvPr/>
              </p:nvGrpSpPr>
              <p:grpSpPr>
                <a:xfrm>
                  <a:off x="7746480" y="232560"/>
                  <a:ext cx="395280" cy="467640"/>
                  <a:chOff x="7746480" y="232560"/>
                  <a:chExt cx="395280" cy="467640"/>
                </a:xfrm>
              </p:grpSpPr>
              <p:sp>
                <p:nvSpPr>
                  <p:cNvPr id="321" name=""/>
                  <p:cNvSpPr/>
                  <p:nvPr/>
                </p:nvSpPr>
                <p:spPr>
                  <a:xfrm flipH="1" rot="3474000">
                    <a:off x="7855920" y="501840"/>
                    <a:ext cx="33048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0600" bIns="30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 rot="3474000">
                    <a:off x="7755480" y="279720"/>
                    <a:ext cx="177480" cy="119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" name=""/>
                <p:cNvGrpSpPr/>
                <p:nvPr/>
              </p:nvGrpSpPr>
              <p:grpSpPr>
                <a:xfrm>
                  <a:off x="7864920" y="212400"/>
                  <a:ext cx="307080" cy="479520"/>
                  <a:chOff x="7864920" y="212400"/>
                  <a:chExt cx="307080" cy="479520"/>
                </a:xfrm>
              </p:grpSpPr>
              <p:sp>
                <p:nvSpPr>
                  <p:cNvPr id="324" name=""/>
                  <p:cNvSpPr/>
                  <p:nvPr/>
                </p:nvSpPr>
                <p:spPr>
                  <a:xfrm flipH="1" rot="4126800">
                    <a:off x="7919280" y="491040"/>
                    <a:ext cx="31860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30600" bIns="306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 rot="4126800">
                    <a:off x="7865280" y="254160"/>
                    <a:ext cx="171000" cy="119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8211600" y="381240"/>
                  <a:ext cx="660960" cy="290160"/>
                  <a:chOff x="8211600" y="381240"/>
                  <a:chExt cx="660960" cy="2901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rot="20274000">
                    <a:off x="8207640" y="526680"/>
                    <a:ext cx="437400" cy="6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8720" bIns="187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rot="20274000">
                    <a:off x="8627400" y="421200"/>
                    <a:ext cx="23472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" name=""/>
                <p:cNvGrpSpPr/>
                <p:nvPr/>
              </p:nvGrpSpPr>
              <p:grpSpPr>
                <a:xfrm>
                  <a:off x="8173800" y="298800"/>
                  <a:ext cx="626040" cy="381960"/>
                  <a:chOff x="8173800" y="298800"/>
                  <a:chExt cx="626040" cy="38196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 rot="19678800">
                    <a:off x="8157600" y="504360"/>
                    <a:ext cx="43812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080" bIns="1908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rot="19678800">
                    <a:off x="8555400" y="353160"/>
                    <a:ext cx="235080" cy="10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2" name=""/>
                <p:cNvSpPr/>
                <p:nvPr/>
              </p:nvSpPr>
              <p:spPr>
                <a:xfrm flipH="1" rot="4578600">
                  <a:off x="7979400" y="509040"/>
                  <a:ext cx="308520" cy="514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" bIns="468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 rot="4578600">
                  <a:off x="7974360" y="280800"/>
                  <a:ext cx="165240" cy="8100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4" name=""/>
                <p:cNvGrpSpPr/>
                <p:nvPr/>
              </p:nvGrpSpPr>
              <p:grpSpPr>
                <a:xfrm>
                  <a:off x="8133480" y="218160"/>
                  <a:ext cx="325080" cy="468720"/>
                  <a:chOff x="8133480" y="218160"/>
                  <a:chExt cx="325080" cy="4687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 rot="17742000">
                    <a:off x="8072280" y="496440"/>
                    <a:ext cx="318960" cy="6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9440" bIns="1944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 rot="17742000">
                    <a:off x="8289360" y="266040"/>
                    <a:ext cx="1710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8140680" y="242640"/>
                  <a:ext cx="510480" cy="451080"/>
                  <a:chOff x="8140680" y="242640"/>
                  <a:chExt cx="510480" cy="451080"/>
                </a:xfrm>
              </p:grpSpPr>
              <p:sp>
                <p:nvSpPr>
                  <p:cNvPr id="338" name=""/>
                  <p:cNvSpPr/>
                  <p:nvPr/>
                </p:nvSpPr>
                <p:spPr>
                  <a:xfrm rot="18822600">
                    <a:off x="8121600" y="487080"/>
                    <a:ext cx="34704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rot="18822600">
                    <a:off x="8439480" y="286560"/>
                    <a:ext cx="186120" cy="14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" name=""/>
                <p:cNvGrpSpPr/>
                <p:nvPr/>
              </p:nvGrpSpPr>
              <p:grpSpPr>
                <a:xfrm>
                  <a:off x="8154360" y="226800"/>
                  <a:ext cx="117360" cy="438120"/>
                  <a:chOff x="8154360" y="226800"/>
                  <a:chExt cx="117360" cy="438120"/>
                </a:xfrm>
              </p:grpSpPr>
              <p:sp>
                <p:nvSpPr>
                  <p:cNvPr id="341" name=""/>
                  <p:cNvSpPr/>
                  <p:nvPr/>
                </p:nvSpPr>
                <p:spPr>
                  <a:xfrm rot="16696200">
                    <a:off x="8046720" y="505800"/>
                    <a:ext cx="2862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 rot="16696200">
                    <a:off x="8160120" y="282240"/>
                    <a:ext cx="1537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" bIns="108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3" name=""/>
                <p:cNvGrpSpPr/>
                <p:nvPr/>
              </p:nvGrpSpPr>
              <p:grpSpPr>
                <a:xfrm>
                  <a:off x="7475400" y="768240"/>
                  <a:ext cx="589320" cy="744120"/>
                  <a:chOff x="7475400" y="768240"/>
                  <a:chExt cx="589320" cy="74412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 flipH="1" rot="18336000">
                    <a:off x="7609680" y="955440"/>
                    <a:ext cx="5176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H="1" rot="18336000">
                    <a:off x="7488000" y="1261800"/>
                    <a:ext cx="27756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6" name=""/>
                <p:cNvGrpSpPr/>
                <p:nvPr/>
              </p:nvGrpSpPr>
              <p:grpSpPr>
                <a:xfrm>
                  <a:off x="7679520" y="798840"/>
                  <a:ext cx="400320" cy="739080"/>
                  <a:chOff x="7679520" y="798840"/>
                  <a:chExt cx="400320" cy="739080"/>
                </a:xfrm>
              </p:grpSpPr>
              <p:sp>
                <p:nvSpPr>
                  <p:cNvPr id="347" name=""/>
                  <p:cNvSpPr/>
                  <p:nvPr/>
                </p:nvSpPr>
                <p:spPr>
                  <a:xfrm flipH="1" rot="17543400">
                    <a:off x="7697160" y="986040"/>
                    <a:ext cx="479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H="1" rot="17543400">
                    <a:off x="7680240" y="1298880"/>
                    <a:ext cx="2570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9" name=""/>
                <p:cNvGrpSpPr/>
                <p:nvPr/>
              </p:nvGrpSpPr>
              <p:grpSpPr>
                <a:xfrm>
                  <a:off x="7881120" y="813600"/>
                  <a:ext cx="237600" cy="716040"/>
                  <a:chOff x="7881120" y="813600"/>
                  <a:chExt cx="237600" cy="716040"/>
                </a:xfrm>
              </p:grpSpPr>
              <p:sp>
                <p:nvSpPr>
                  <p:cNvPr id="350" name=""/>
                  <p:cNvSpPr/>
                  <p:nvPr/>
                </p:nvSpPr>
                <p:spPr>
                  <a:xfrm flipH="1" rot="16870800">
                    <a:off x="7795440" y="999000"/>
                    <a:ext cx="459720" cy="99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 flipH="1" rot="16870800">
                    <a:off x="7857720" y="1315080"/>
                    <a:ext cx="24660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2" name=""/>
                <p:cNvGrpSpPr/>
                <p:nvPr/>
              </p:nvGrpSpPr>
              <p:grpSpPr>
                <a:xfrm>
                  <a:off x="8242200" y="755640"/>
                  <a:ext cx="613080" cy="733320"/>
                  <a:chOff x="8242200" y="755640"/>
                  <a:chExt cx="613080" cy="733320"/>
                </a:xfrm>
              </p:grpSpPr>
              <p:sp>
                <p:nvSpPr>
                  <p:cNvPr id="353" name=""/>
                  <p:cNvSpPr/>
                  <p:nvPr/>
                </p:nvSpPr>
                <p:spPr>
                  <a:xfrm rot="3144000">
                    <a:off x="8184960" y="939240"/>
                    <a:ext cx="5180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rot="3144000">
                    <a:off x="8562240" y="1238400"/>
                    <a:ext cx="2779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5" name=""/>
                <p:cNvGrpSpPr/>
                <p:nvPr/>
              </p:nvGrpSpPr>
              <p:grpSpPr>
                <a:xfrm>
                  <a:off x="8225640" y="784440"/>
                  <a:ext cx="474480" cy="748800"/>
                  <a:chOff x="8225640" y="784440"/>
                  <a:chExt cx="474480" cy="748800"/>
                </a:xfrm>
              </p:grpSpPr>
              <p:sp>
                <p:nvSpPr>
                  <p:cNvPr id="356" name=""/>
                  <p:cNvSpPr/>
                  <p:nvPr/>
                </p:nvSpPr>
                <p:spPr>
                  <a:xfrm rot="3745200">
                    <a:off x="8139240" y="975600"/>
                    <a:ext cx="495720" cy="106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rot="3745200">
                    <a:off x="8431560" y="1293120"/>
                    <a:ext cx="26568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8" name=""/>
                <p:cNvGrpSpPr/>
                <p:nvPr/>
              </p:nvGrpSpPr>
              <p:grpSpPr>
                <a:xfrm>
                  <a:off x="8198280" y="814680"/>
                  <a:ext cx="331560" cy="732960"/>
                  <a:chOff x="8198280" y="814680"/>
                  <a:chExt cx="331560" cy="732960"/>
                </a:xfrm>
              </p:grpSpPr>
              <p:sp>
                <p:nvSpPr>
                  <p:cNvPr id="359" name=""/>
                  <p:cNvSpPr/>
                  <p:nvPr/>
                </p:nvSpPr>
                <p:spPr>
                  <a:xfrm rot="4286400">
                    <a:off x="8075520" y="1012320"/>
                    <a:ext cx="48060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680" bIns="4068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 rot="4286400">
                    <a:off x="8294760" y="1334880"/>
                    <a:ext cx="257760" cy="13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1" name=""/>
                <p:cNvGrpSpPr/>
                <p:nvPr/>
              </p:nvGrpSpPr>
              <p:grpSpPr>
                <a:xfrm>
                  <a:off x="8174160" y="847440"/>
                  <a:ext cx="191520" cy="679320"/>
                  <a:chOff x="8174160" y="847440"/>
                  <a:chExt cx="191520" cy="679320"/>
                </a:xfrm>
              </p:grpSpPr>
              <p:sp>
                <p:nvSpPr>
                  <p:cNvPr id="362" name=""/>
                  <p:cNvSpPr/>
                  <p:nvPr/>
                </p:nvSpPr>
                <p:spPr>
                  <a:xfrm rot="4898400">
                    <a:off x="8028000" y="1028880"/>
                    <a:ext cx="44208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 rot="4898400">
                    <a:off x="8161920" y="1330920"/>
                    <a:ext cx="237240" cy="136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4" name=""/>
                <p:cNvGrpSpPr/>
                <p:nvPr/>
              </p:nvGrpSpPr>
              <p:grpSpPr>
                <a:xfrm>
                  <a:off x="8008560" y="859320"/>
                  <a:ext cx="185040" cy="664200"/>
                  <a:chOff x="8008560" y="859320"/>
                  <a:chExt cx="185040" cy="664200"/>
                </a:xfrm>
              </p:grpSpPr>
              <p:sp>
                <p:nvSpPr>
                  <p:cNvPr id="365" name=""/>
                  <p:cNvSpPr/>
                  <p:nvPr/>
                </p:nvSpPr>
                <p:spPr>
                  <a:xfrm rot="5755200">
                    <a:off x="7922160" y="1044000"/>
                    <a:ext cx="43200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9800" bIns="19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6" name=""/>
                  <p:cNvSpPr/>
                  <p:nvPr/>
                </p:nvSpPr>
                <p:spPr>
                  <a:xfrm rot="5755200">
                    <a:off x="7956720" y="1350000"/>
                    <a:ext cx="23184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67" name=""/>
              <p:cNvSpPr/>
              <p:nvPr/>
            </p:nvSpPr>
            <p:spPr>
              <a:xfrm flipH="1">
                <a:off x="7865280" y="944280"/>
                <a:ext cx="172800" cy="44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7552080" y="762480"/>
                <a:ext cx="1508040" cy="1383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8138520" y="364320"/>
                <a:ext cx="1072080" cy="122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>
                <a:off x="7628760" y="673200"/>
                <a:ext cx="657360" cy="138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7316280" y="709560"/>
                <a:ext cx="1015200" cy="1382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>
                <a:off x="7252200" y="579600"/>
                <a:ext cx="1057320" cy="138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155440" y="679680"/>
                <a:ext cx="166680" cy="138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8137440" y="676800"/>
                <a:ext cx="442080" cy="138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133120" y="583200"/>
                <a:ext cx="627480" cy="138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8351640" y="1020240"/>
                <a:ext cx="172080" cy="44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 rot="19660800">
                <a:off x="8083080" y="874080"/>
                <a:ext cx="156240" cy="251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7204320" y="473040"/>
                <a:ext cx="1057320" cy="1384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7295040" y="322560"/>
                <a:ext cx="888840" cy="1383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087760" y="613080"/>
                <a:ext cx="375120" cy="1384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7351920" y="981000"/>
                <a:ext cx="384840" cy="45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>
                <a:off x="7533720" y="496440"/>
                <a:ext cx="246960" cy="45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818120" y="360000"/>
                <a:ext cx="148320" cy="457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741880" y="913680"/>
                <a:ext cx="357480" cy="481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556120" y="669960"/>
                <a:ext cx="538920" cy="321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575920" y="329400"/>
                <a:ext cx="235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253000">
                <a:off x="8343360" y="687600"/>
                <a:ext cx="157320" cy="25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H="1" rot="1347000">
                <a:off x="7782840" y="680400"/>
                <a:ext cx="156600" cy="25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C3D2F-BD9D-4715-95FC-A59D1054B9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000" y="301680"/>
            <a:ext cx="828036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a11001"/>
                </a:solidFill>
                <a:latin typeface="宋体"/>
              </a:rPr>
              <a:t>出血倾向：</a:t>
            </a:r>
            <a:br>
              <a:rPr sz="2800"/>
            </a:br>
            <a:r>
              <a:rPr b="1" lang="zh-CN" sz="2800" spc="-1" strike="noStrike">
                <a:solidFill>
                  <a:srgbClr val="a11001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凝血功能障碍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P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破坏增多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输注新鲜冰冻血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15ml/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或冷沉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国际单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15mg/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输注单采血小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位（多采血小板悬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单位）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凝血酶原复合物首次剂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20u/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后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小时给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u/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补充维生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-15m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注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2B84E-40B4-4EF9-A26E-DB64A72617D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608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a11001"/>
                </a:solidFill>
                <a:latin typeface="宋体"/>
              </a:rPr>
              <a:t>白细胞减少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粒细胞小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x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并伴有危险生命的感染时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输注白细胞混悬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-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单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50k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-2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a11001"/>
                </a:solidFill>
                <a:latin typeface="宋体"/>
              </a:rPr>
              <a:t>低蛋白血症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白蛋白低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8g/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为严重低下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血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00m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升高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g/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理论值）。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68360" y="6858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79BC-3810-485F-8668-FA311AC0691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320" y="1447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宋体"/>
              </a:rPr>
              <a:t>一、概  述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436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648320" y="2743200"/>
            <a:ext cx="3429000" cy="312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AB1E3-1041-4569-89D0-9EBE513531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806436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4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患者女性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45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岁，有风心（二狭）二十年，心悸气急加重二天，伴咯血三小时入院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体检：风心二狭面容，呼吸频率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次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分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BP108/50mmHg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R109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次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分，心尖区可闻及有低调隆隆样舒张中晚期杂音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P2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大于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A2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伴分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实验室检查：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b76g/L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心超：二尖瓣呈城墙样改变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65A94-2355-4158-9786-DA4E0FAB664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Ⅳ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、心功能不全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640" y="6858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5257800" y="4086360"/>
            <a:ext cx="3886200" cy="2771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72EF-B2F4-4F06-92B4-07C442C9F4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8512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心功能不全合并下列情况可考虑输血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消化道大出血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呼吸道大咯血（少见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b&lt;60g/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并症状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冠心病心绞痛合并贫血用药不能控制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各种心脏手术等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37160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C737A-209C-4553-82BD-6D4A071FA243}" type="slidenum">
              <a:t>22</a:t>
            </a:fld>
          </a:p>
        </p:txBody>
      </p:sp>
    </p:spTree>
  </p:cSld>
  <p:transition>
    <p:cover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840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输血原则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能不输者就不输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能少输者不多输；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能多次输注者不一次输注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37160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ECC34-F749-4BDF-9720-82FE850DF844}" type="slidenum">
              <a:t>23</a:t>
            </a:fld>
          </a:p>
        </p:txBody>
      </p:sp>
    </p:spTree>
  </p:cSld>
  <p:transition>
    <p:cover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24000" y="777600"/>
            <a:ext cx="8208720" cy="60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剂量根据病情、心功能而定。每日以不超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0-350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宜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输血速度比量更为重要，速度宜慢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m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输血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钟可洋地黄化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利尿剂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血液动力学监测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00000" y="666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5CDE4-CF99-490C-9BDA-9EDE7FCE54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Ⅴ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、慢性贫血性疾病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68360" y="6858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0" y="4251240"/>
            <a:ext cx="3295800" cy="2606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F187F-AC45-4006-A26B-B27DC9FC476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6436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5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患者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岁，女性，有苯酚接触史五年，面色苍白乏力二年，伴全身皮肤出血点一周入院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体检：神清，面色苍白，全身皮肤散在针尖大小出血点，胸骨无压痛，肝脾未触及肿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实验室检查：外周血三系细胞减少，骨髓涂片与病理均提示骨髓增生明显下降，造血细胞减少，非造血细胞增多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6D5CF-5661-44DE-A087-E79C97F068F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7600"/>
                </a:solidFill>
                <a:latin typeface="宋体"/>
              </a:rPr>
              <a:t>（Ⅰ）再生障碍性贫血（再障）</a:t>
            </a:r>
            <a:br>
              <a:rPr sz="40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严格掌握输血指征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尤其准备造血干细胞移植少输血或不输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尽量选择成分输血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EPO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与输注红细胞间隔使用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6836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4AE0-25AF-456D-B5DB-FB41BD8019C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95280" y="952560"/>
            <a:ext cx="83628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贫血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Hb&lt;60g/L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伴有明显症状者，可考虑输注悬浮红细胞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每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滴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ml/min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伴心脏病疾患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血红蛋白维持应维持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90g/L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上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11280" y="6858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0C813-E45A-47CB-85AF-7DA31124B1D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851040"/>
            <a:ext cx="835344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出血：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PC&lt;20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/L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伴出血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单采血小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u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次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感染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hG-CSF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rhGM-CSF--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粒细胞数升高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72h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粒细胞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&lt;0.5×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/L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伴感染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抗生素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粒细胞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0-15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-2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964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04A56-A4DF-49C4-899F-1D1DAB9D1B4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9072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24000" y="1268280"/>
          <a:ext cx="8281800" cy="4764240"/>
        </p:xfrm>
        <a:graphic>
          <a:graphicData uri="http://schemas.openxmlformats.org/drawingml/2006/table">
            <a:tbl>
              <a:tblPr/>
              <a:tblGrid>
                <a:gridCol w="2584440"/>
                <a:gridCol w="5697360"/>
              </a:tblGrid>
              <a:tr h="64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红细胞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少浆血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（浓缩红细）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目前已很少应用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悬浮红细胞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0m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5d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少白红细胞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0m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4h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5d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洗涤红细胞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30m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低温红细胞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30m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6h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辐射红细胞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0m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2h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（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8d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DBAB-EB56-4B37-8BFD-832FBD2F6C4A}" type="slidenum">
              <a:t>3</a:t>
            </a:fld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240" y="990720"/>
            <a:ext cx="8675640" cy="42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e1f08"/>
                </a:solidFill>
                <a:latin typeface="宋体"/>
              </a:rPr>
              <a:t>注意事项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）少白细胞红细胞应用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）输血反应史，输注洗涤红细胞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）移植者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HLA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相合，输注辐照血液制品。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95280" y="738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37705-E559-487B-95D5-269A60CD3B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0920" y="836640"/>
            <a:ext cx="7848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6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患者男性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岁，因上呼吸道感染服用头孢啦啶后三天出现面色苍白乏力气急入院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体检：贫血貌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BP100/60mmHg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R102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次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分，肝脾肋下刚触及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实验室检查：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b38g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Coombs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试验阳性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am’s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试验阴性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A54E-D32D-437A-AA28-88D7B813AF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76280"/>
            <a:ext cx="842472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ec7600"/>
                </a:solidFill>
                <a:latin typeface="宋体"/>
              </a:rPr>
              <a:t>（</a:t>
            </a:r>
            <a:r>
              <a:rPr b="1" lang="zh-CN" sz="3400" spc="-1" strike="noStrike">
                <a:solidFill>
                  <a:srgbClr val="ec7600"/>
                </a:solidFill>
                <a:latin typeface="宋体"/>
              </a:rPr>
              <a:t>II</a:t>
            </a:r>
            <a:r>
              <a:rPr b="1" lang="zh-CN" sz="3400" spc="-1" strike="noStrike">
                <a:solidFill>
                  <a:srgbClr val="ec7600"/>
                </a:solidFill>
                <a:latin typeface="宋体"/>
              </a:rPr>
              <a:t>）自身免疫性溶血性贫血（</a:t>
            </a:r>
            <a:r>
              <a:rPr b="1" lang="zh-CN" sz="3400" spc="-1" strike="noStrike">
                <a:solidFill>
                  <a:srgbClr val="ec7600"/>
                </a:solidFill>
                <a:latin typeface="宋体"/>
              </a:rPr>
              <a:t>AIHA</a:t>
            </a:r>
            <a:r>
              <a:rPr b="1" lang="zh-CN" sz="3400" spc="-1" strike="noStrike">
                <a:solidFill>
                  <a:srgbClr val="ec7600"/>
                </a:solidFill>
                <a:latin typeface="宋体"/>
              </a:rPr>
              <a:t>）</a:t>
            </a:r>
            <a:br>
              <a:rPr sz="3400"/>
            </a:br>
            <a:r>
              <a:rPr b="1" lang="zh-CN" sz="3400" spc="-1" strike="noStrike">
                <a:solidFill>
                  <a:srgbClr val="ec7600"/>
                </a:solidFill>
                <a:latin typeface="宋体"/>
              </a:rPr>
              <a:t>    尽量不输血</a:t>
            </a:r>
            <a:br>
              <a:rPr sz="3400"/>
            </a:br>
            <a:br>
              <a:rPr sz="34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g/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ct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。在平静时有缺氧症状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0g/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伴有急性起病、发展快或心功能不全、心绞痛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出现溶血危象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24000" y="731664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ffcc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D5C62-0AE1-40E5-A031-68CDD697E95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496360" cy="60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e1f08"/>
                </a:solidFill>
                <a:latin typeface="宋体"/>
              </a:rPr>
              <a:t>输血前检查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）鉴定患者的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ABO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血型和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Rh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血型，避免自身抗体干扰正确血型的鉴定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）鉴定患者自身抗体的特异性（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IgG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IgM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），对血液交叉匹配试验很重要。</a:t>
            </a:r>
            <a:br>
              <a:rPr sz="3400"/>
            </a:b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）鉴定患者同种抗体的特异性，可用自身吸收法后再鉴定同种抗体。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71600" y="702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ffcc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B29D-4DBD-44A0-8C81-2C81776D62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458200" cy="59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1f08"/>
                </a:solidFill>
                <a:latin typeface="宋体"/>
              </a:rPr>
              <a:t>输血注意事项：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选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相合悬浮红细胞或洗涤红细胞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B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型相合，主侧（患者血清与供体红细胞）反应最弱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紧急时，血型鉴定困难，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型悬浮红细胞、洗涤红细胞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9640" y="6858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B52A3-5D09-4D85-A289-A74148FD26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280" y="301680"/>
            <a:ext cx="8280360" cy="61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输血量仅需达到维持氧交换和心肺功能即可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输血前，须使用肾上腺糖皮质激素或加大剂量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可加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IVI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每天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.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.5g/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连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疗程。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6836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0D53C-07F7-46B4-A6E8-139F16465C0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137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7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患者男性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岁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有放射性物质接触史五年，面色苍白乏力三个月，伴全身皮肤出血点一周入院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体检：神清，面色苍白，全身皮肤散在针尖大小出血点，胸骨压痛，肝脾肿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实验室检查：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b46g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WBC30X10</a:t>
            </a:r>
            <a:r>
              <a:rPr b="1" lang="zh-CN" sz="3200" spc="-1" strike="noStrike" baseline="30000">
                <a:solidFill>
                  <a:srgbClr val="af273e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PLT20X10</a:t>
            </a:r>
            <a:r>
              <a:rPr b="1" lang="zh-CN" sz="3200" spc="-1" strike="noStrike" baseline="30000">
                <a:solidFill>
                  <a:srgbClr val="af273e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；骨髓涂片示骨髓增生明显，早幼粒细胞占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78%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红系巨核系明显抑制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BDF9-2084-497B-8A97-4E29CC94F21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76360" y="1484280"/>
            <a:ext cx="6324480" cy="35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Ⅵ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、恶性肿瘤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619280" y="710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0" y="4133880"/>
            <a:ext cx="2743200" cy="27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F009A-4E44-40B8-A345-1150EBEF49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52280" y="762120"/>
            <a:ext cx="8763120" cy="59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常见实体瘤、白血病、多发性骨髓瘤和淋巴瘤等恶性肿瘤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输血适应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W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5X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中性粒细胞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0.5X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伴高热和抗生素无效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BP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0X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伴危及生命的出血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造血干细胞移植期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60g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伴缺氧症状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并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0" y="6858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57815-08D2-4977-8E76-1137E4699A9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35164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悬浮红细胞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Hb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维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0g/L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造血干细胞移植，辐照红细胞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粒细胞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净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+IVIg+GM-CS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综合治疗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白细胞混悬液（少用）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单采血小板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伴有出血倾向，尤其是颅内出血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 每单位含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5X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血小板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24000" y="702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8D3D0-CA60-408C-B022-1F9EA756CF9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99072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39640" y="907920"/>
          <a:ext cx="8217000" cy="5391360"/>
        </p:xfrm>
        <a:graphic>
          <a:graphicData uri="http://schemas.openxmlformats.org/drawingml/2006/table">
            <a:tbl>
              <a:tblPr/>
              <a:tblGrid>
                <a:gridCol w="2232000"/>
                <a:gridCol w="5985000"/>
              </a:tblGrid>
              <a:tr h="14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浓缩白细胞混悬液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（粒细胞）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（辐射）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5m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h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。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血小板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机器分离（单采）浓缩血小板悬液：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50m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保存期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d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。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含较多血浆成分的手工分离浓缩血小板悬液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: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5m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4h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。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8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血浆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普通冰冻血浆，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0ml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新鲜冰冻血浆，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0ml,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y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冷沉淀物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容量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5ml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保存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y 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95806-4790-4ADB-A556-81F6503099E2}" type="slidenum">
              <a:t>4</a:t>
            </a:fld>
          </a:p>
        </p:txBody>
      </p:sp>
    </p:spTree>
  </p:cSld>
  <p:transition>
    <p:blinds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512200" cy="57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宋体"/>
              </a:rPr>
              <a:t>注意事项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肺部感染患者与老年人，不宜输注白细胞混悬液（粒细胞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--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输血相关性急性肺损伤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血型抗原减弱，应引起高度重视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避免输注粒细胞悬液、多人份血小板和全血，以免产生同种抗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防止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GVH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必须辐照血制品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042920" y="717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20DA0-6CD9-44D2-9893-4645C61929B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95280" y="2349000"/>
            <a:ext cx="784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Ⅶ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、出血病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7164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6095880" y="4057560"/>
            <a:ext cx="304812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776EA-0377-4F22-B15E-28222B9BB13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55640" y="620640"/>
            <a:ext cx="77738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8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患者女性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38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岁，全身皮肤时有瘀点瘀斑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五年，明显增多三个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体检：神清，全身皮肤有明显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瘀点瘀斑，胸骨无压痛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肝脾肋下未触及肿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实验室检查：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b106g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WBC4.0X109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PLT45X109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；骨髓涂片示骨髓增生活跃，巨核细胞明显增多，伴成熟障碍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BEB3-16BE-46CC-A4CE-B30A017D63F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8498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7600"/>
                </a:solidFill>
                <a:latin typeface="宋体"/>
              </a:rPr>
              <a:t>（Ⅰ）特发性血小板减少性紫癜（</a:t>
            </a:r>
            <a:r>
              <a:rPr b="1" lang="zh-CN" sz="3600" spc="-1" strike="noStrike">
                <a:solidFill>
                  <a:srgbClr val="ec7600"/>
                </a:solidFill>
                <a:latin typeface="宋体"/>
              </a:rPr>
              <a:t>ITP</a:t>
            </a:r>
            <a:r>
              <a:rPr b="1" lang="zh-CN" sz="3600" spc="-1" strike="noStrike">
                <a:solidFill>
                  <a:srgbClr val="ec7600"/>
                </a:solidFill>
                <a:latin typeface="宋体"/>
              </a:rPr>
              <a:t>）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疑颅内出血者；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P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X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9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BPC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＜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0X10</a:t>
            </a:r>
            <a:r>
              <a:rPr b="1" lang="zh-CN" sz="3600" spc="-1" strike="noStrike" baseline="30000">
                <a:solidFill>
                  <a:srgbClr val="000000"/>
                </a:solidFill>
                <a:latin typeface="宋体"/>
              </a:rPr>
              <a:t>9/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伴活动性出血者；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围术期严重出血者。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9640" y="7174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8614B-92DB-4238-8910-266253838A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1680"/>
            <a:ext cx="7773840" cy="60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1f08"/>
                </a:solidFill>
                <a:latin typeface="宋体"/>
              </a:rPr>
              <a:t>注意事项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连续输注单采血小板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u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肾上腺皮质激素的应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先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IVIg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一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0.4g/kg/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连用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d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一个疗程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26920" y="666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07AC7-25C1-4AB1-B2D9-5546ED1A6E2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848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9</a:t>
            </a: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患者男性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18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岁，自幼双下肢髋关节膝关节自发性肿胀伴畸形，三天前双下肢髋关节自发性肿胀加剧入院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体检：神清，全身皮肤有明显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瘀斑，双下肢髋关节膝关节肿大压痛明显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肝脾肋下未触及肿大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实验室检查：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Hb106g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WBC4.0X109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PLT150X109/L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，Ⅷ因子浓度＜</a:t>
            </a:r>
            <a:r>
              <a:rPr b="1" lang="zh-CN" sz="3200" spc="-1" strike="noStrike">
                <a:solidFill>
                  <a:srgbClr val="af273e"/>
                </a:solidFill>
                <a:latin typeface="宋体"/>
              </a:rPr>
              <a:t>1%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6D299-2618-4C8F-8F2B-946FA651FEB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552240"/>
            <a:ext cx="8534160" cy="57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7600"/>
                </a:solidFill>
                <a:latin typeface="宋体"/>
              </a:rPr>
              <a:t>（Ⅱ）血友病</a:t>
            </a:r>
            <a:r>
              <a:rPr b="1" lang="zh-CN" sz="3200" spc="-1" strike="noStrike">
                <a:solidFill>
                  <a:srgbClr val="ec7600"/>
                </a:solidFill>
                <a:latin typeface="宋体"/>
              </a:rPr>
              <a:t>A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轻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因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V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-2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发生在青年期，运动、拔牙、手术后出血不止，偶尔关节出血等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中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因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V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-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儿童期后，皮下、肌肉出血，也有关节出血等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重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因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V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活性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&lt;1%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&lt;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即出血，出血重、皮肤肌肉关节反复出血，关节畸形等。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600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BBD03-5FF0-4591-BD34-6424BF5551C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685800"/>
            <a:ext cx="849636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抗血友病球蛋白浓缩剂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u/k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提高血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V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 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静脉滴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冷沉淀：按每袋冷沉淀含因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VIII 80IU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算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FVIII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水平达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-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袋冷沉淀，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一次，连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新鲜冷冻血浆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5ml/k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一次，连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。（含量低、容量大一般少用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57D48-B499-4762-9DE5-724EAA7919F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7" name=""/>
          <p:cNvGraphicFramePr/>
          <p:nvPr/>
        </p:nvGraphicFramePr>
        <p:xfrm>
          <a:off x="755640" y="1557360"/>
          <a:ext cx="7772400" cy="418608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类型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血浆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FVIII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：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％）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维持时间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）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拔牙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型手术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中型手术</a:t>
                      </a:r>
                      <a:br>
                        <a:rPr sz="2400"/>
                      </a:b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5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81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大型手术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0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～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304B3-4D87-4B22-B299-BD149C6FC08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56944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10</a:t>
            </a:r>
            <a:br>
              <a:rPr sz="2800"/>
            </a:b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患者男性，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28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岁，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有放射性物质接触史五年，面色苍白乏力三个月，伴全身皮肤出血点一周入院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体检：神清，面色苍白，全身皮肤散在针尖大小出血点，胸骨压痛，肝脾肿大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实验室检查：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Hb46g/L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WBC30X10</a:t>
            </a:r>
            <a:r>
              <a:rPr b="1" lang="zh-CN" sz="2800" spc="-1" strike="noStrike" baseline="30000">
                <a:solidFill>
                  <a:srgbClr val="af273e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/L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PLT20X10</a:t>
            </a:r>
            <a:r>
              <a:rPr b="1" lang="zh-CN" sz="2800" spc="-1" strike="noStrike" baseline="30000">
                <a:solidFill>
                  <a:srgbClr val="af273e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/L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；</a:t>
            </a:r>
            <a:br>
              <a:rPr sz="2800"/>
            </a:b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PT26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秒（正常对照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15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秒），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APTT58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秒（正常对照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35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秒），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D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二聚体（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），血浆纤维蛋白原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1.0g/L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， </a:t>
            </a:r>
            <a:br>
              <a:rPr sz="2800"/>
            </a:b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骨髓涂片示骨髓增生明显，早幼粒细胞占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78%</a:t>
            </a:r>
            <a:r>
              <a:rPr b="1" lang="zh-CN" sz="2800" spc="-1" strike="noStrike">
                <a:solidFill>
                  <a:srgbClr val="af273e"/>
                </a:solidFill>
                <a:latin typeface="宋体"/>
              </a:rPr>
              <a:t>，红系巨核系明显抑制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328AA-E4F4-4E39-8DBD-1FEA66D3EF5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24000" y="1844640"/>
            <a:ext cx="8570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宋体"/>
              </a:rPr>
              <a:t>部分疾病怎样有效输血</a:t>
            </a:r>
            <a:r>
              <a:rPr b="1" lang="zh-CN" sz="5400" spc="-1" strike="noStrike">
                <a:solidFill>
                  <a:srgbClr val="000066"/>
                </a:solidFill>
                <a:latin typeface="宋体"/>
              </a:rPr>
              <a:t>?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000066"/>
                </a:solidFill>
                <a:latin typeface="宋体"/>
              </a:rPr>
              <a:t>输血时应注意哪些</a:t>
            </a:r>
            <a:r>
              <a:rPr b="1" lang="zh-CN" sz="5400" spc="-1" strike="noStrike">
                <a:solidFill>
                  <a:srgbClr val="000066"/>
                </a:solidFill>
                <a:latin typeface="宋体"/>
              </a:rPr>
              <a:t>?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6629400" y="3840120"/>
            <a:ext cx="2514600" cy="301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CFF8B-298C-4592-957B-11243C2FF0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8569080" cy="541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7600"/>
                </a:solidFill>
                <a:latin typeface="宋体"/>
              </a:rPr>
              <a:t>（Ⅲ）弥散性血管内凝血（</a:t>
            </a:r>
            <a:r>
              <a:rPr b="1" lang="zh-CN" sz="3200" spc="-1" strike="noStrike">
                <a:solidFill>
                  <a:srgbClr val="ec7600"/>
                </a:solidFill>
                <a:latin typeface="宋体"/>
              </a:rPr>
              <a:t>DIC</a:t>
            </a:r>
            <a:r>
              <a:rPr b="1" lang="zh-CN" sz="3200" spc="-1" strike="noStrike">
                <a:solidFill>
                  <a:srgbClr val="ec7600"/>
                </a:solidFill>
                <a:latin typeface="宋体"/>
              </a:rPr>
              <a:t>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单采血小板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I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消耗大量血小板，血小板数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0X10</a:t>
            </a:r>
            <a:r>
              <a:rPr b="1" lang="zh-CN" sz="3200" spc="-1" strike="noStrike" baseline="30000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/L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白血病并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I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更应输注血小板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冷沉淀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补充凝血因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-15IU/kg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每天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。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新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冷冻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浆（少用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补充凝血因子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0-15ml/kg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11280" y="7389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25113-9CF0-4C98-A4D6-2699F7848AB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759960"/>
            <a:ext cx="86104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1f08"/>
                </a:solidFill>
                <a:latin typeface="宋体"/>
              </a:rPr>
              <a:t>注意事项</a:t>
            </a:r>
            <a:br>
              <a:rPr sz="3200"/>
            </a:br>
            <a:br>
              <a:rPr sz="32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小剂量肝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液制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u/200ml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凝血活酶时间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PT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作为判断指标，延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.5-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倍为宜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(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纤维蛋白原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F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被大量消耗。每次输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4g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血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F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含量增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g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24000" y="6858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EF3E6-5428-48CB-B64F-F9AEEE708FC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280" y="706320"/>
            <a:ext cx="8280360" cy="61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抗凝血酶Ⅲ（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T- Ⅲ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①由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理过程中消耗了大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T-Ⅲ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需补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T-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发挥肝素的抗凝作用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②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性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（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），即需补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③一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u/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，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T-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活性增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％。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第一天补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AT-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制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000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以后每天补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00u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连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即可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68360" y="666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659E7-6832-4C2B-B5B6-0EF8B17BFAB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23640" y="380520"/>
            <a:ext cx="85690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宋体"/>
              </a:rPr>
              <a:t>谢谢各位同道！</a:t>
            </a:r>
            <a:endParaRPr b="0" lang="en-US" sz="8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3352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41DD2-216A-41B9-80A8-124EF652A24B}" type="slidenum">
              <a:t>53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1196640"/>
            <a:ext cx="83516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案例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1</a:t>
            </a:r>
            <a:br>
              <a:rPr sz="3600"/>
            </a:b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患者男性，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25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岁，建筑工人，因高空作业不幸落地入院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体检：</a:t>
            </a:r>
            <a:br>
              <a:rPr sz="3600"/>
            </a:b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神志模糊，面色苍白，四肢厥冷，呼吸频率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30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次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分，血压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50/30mmHg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，心率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120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次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/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分，腹部膨隆，移动浊音（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+</a:t>
            </a:r>
            <a:r>
              <a:rPr b="1" lang="zh-CN" sz="3600" spc="-1" strike="noStrike">
                <a:solidFill>
                  <a:srgbClr val="af273e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7164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9496A-DF25-473F-9770-C245BDF09F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2492280"/>
            <a:ext cx="81360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66"/>
                </a:solidFill>
                <a:latin typeface="宋体"/>
              </a:rPr>
              <a:t>Ⅰ</a:t>
            </a:r>
            <a:r>
              <a:rPr b="1" lang="zh-CN" sz="6600" spc="-1" strike="noStrike">
                <a:solidFill>
                  <a:srgbClr val="000066"/>
                </a:solidFill>
                <a:latin typeface="宋体"/>
              </a:rPr>
              <a:t>、大出血</a:t>
            </a:r>
            <a:br>
              <a:rPr sz="6600"/>
            </a:br>
            <a:r>
              <a:rPr b="1" lang="zh-CN" sz="6600" spc="-1" strike="noStrike">
                <a:solidFill>
                  <a:srgbClr val="000066"/>
                </a:solidFill>
                <a:latin typeface="宋体"/>
              </a:rPr>
              <a:t>（失血性休克）</a:t>
            </a:r>
            <a:endParaRPr b="0" lang="en-US" sz="6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786720" y="3860640"/>
            <a:ext cx="2357280" cy="29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E9CD-0252-4198-B190-C5C21D5DE34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971640" y="6858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860400"/>
            <a:ext cx="573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华文新魏"/>
              </a:rPr>
              <a:t>根据症状和体征估计失血量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80880" y="1676520"/>
          <a:ext cx="8153640" cy="4389480"/>
        </p:xfrm>
        <a:graphic>
          <a:graphicData uri="http://schemas.openxmlformats.org/drawingml/2006/table">
            <a:tbl>
              <a:tblPr/>
              <a:tblGrid>
                <a:gridCol w="3903840"/>
                <a:gridCol w="424980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症状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00 m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占血容量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%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无症状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00m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占血容量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%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安静时无症状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,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运动后有症状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500m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占血容量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%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卧位时少症状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,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体位性低血压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00m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占血容量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0%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安静时中心静脉压下降、心输出量及血压下降等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500ml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，占血容量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0%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严重休克可导致死亡</a:t>
                      </a:r>
                      <a:endParaRPr b="0" lang="en-US" sz="2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7F16F-29E3-4A90-9AC5-A287284F54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85800" y="609480"/>
            <a:ext cx="403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具体输用方法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0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50920" y="1413000"/>
          <a:ext cx="8559720" cy="4771800"/>
        </p:xfrm>
        <a:graphic>
          <a:graphicData uri="http://schemas.openxmlformats.org/drawingml/2006/table">
            <a:tbl>
              <a:tblPr/>
              <a:tblGrid>
                <a:gridCol w="3744720"/>
                <a:gridCol w="4815000"/>
              </a:tblGrid>
              <a:tr h="64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华文新魏"/>
                        </a:rPr>
                        <a:t>失血量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 Black"/>
                          <a:ea typeface="华文新魏"/>
                        </a:rPr>
                        <a:t>方    法</a:t>
                      </a:r>
                      <a:endParaRPr b="0" lang="en-US" sz="28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小于血容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%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晶体盐溶液，出血前伴贫血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---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悬浮红细胞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等于血容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0%-40%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晶体盐溶液、白蛋白、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新鲜冰冻血浆、 红细胞悬液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等于血容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0%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上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+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单采血小板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-2u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）、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冷沉淀物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-20u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）等。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5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失血量大于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0%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上述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+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凝血酶原复合物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0-20u/kg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、单采血小板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-4u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）、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冷沉淀物（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0-40u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）等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上海交通大学附属市六医院李志强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AAE90-E849-440D-B039-ADF0DB5121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94-04-14T04:04:18Z</dcterms:created>
  <dc:creator>hjw</dc:creator>
  <dc:description/>
  <dc:language>en-US</dc:language>
  <cp:lastModifiedBy>雨林木风</cp:lastModifiedBy>
  <dcterms:modified xsi:type="dcterms:W3CDTF">2011-10-02T16:26:55Z</dcterms:modified>
  <cp:revision>103</cp:revision>
  <dc:subject/>
  <dc:title>血液成分的临床应用</dc:title>
</cp:coreProperties>
</file>