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48C-7955-40F7-A51C-3806E93F4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98B-6A7D-46D8-9BA0-1EE8A9311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7078-2A68-4D30-A2BB-0646DE2F3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BDBD-B3C1-44CF-BC15-43C3BA543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F7874-0BEE-4169-8B0E-6FAE9109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2F247-C760-4C6A-B10A-E33341E2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E0B6F-28FF-4AF7-A568-408B4702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BF37D4-0759-4ECD-B1E8-9C81F640D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9F8FB-A333-4626-8A43-8975608B7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B51D40-D2FD-4F3E-8B3E-B66E5EE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5271E2-E69B-4717-872A-A7AE0701D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CFE7-CC7A-4C51-BD98-B4D132B4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E906A-F79D-4E8B-84C7-E5C2EA90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3E8983-42BD-4461-93D8-F8C70E05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B2BE0-B154-403E-B326-7800BED2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FCDB1A-27C7-44FE-BE95-8D8D9B2E7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010A9-88DF-4989-910F-2552B89C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C6DA-691F-487A-B06F-D9512AED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D780-E7CA-4A80-A285-46DB7113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F71C-E2FD-495F-9D45-BFD1C6413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43BD-B7F8-48FA-BC80-F7304474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C796-7557-4745-A292-2406F1E8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A56D-D64C-42DB-92DB-A810408C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6ADB-7FFA-4272-9A3C-EB31E7DF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3DBF-7769-4363-B0C8-CC29EE2F210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02478-D2E8-40DC-8069-60D62506785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47636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临沂市人民医院南区手术室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李宗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826920" y="2349360"/>
            <a:ext cx="7925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自体血液回收机的临床应用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38F-B14F-4514-B3DB-137FB03AFAD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ffcc"/>
                </a:solidFill>
                <a:latin typeface="Tahoma"/>
                <a:ea typeface="仿宋_GB2312"/>
              </a:rPr>
              <a:t>我院使用回收机的照片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ahoma"/>
              </a:rPr>
              <a:t>照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343B-AF9E-45E6-8084-FB71922FE9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797280" y="404640"/>
            <a:ext cx="4626000" cy="61675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24000" y="220500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楷体_GB2312"/>
              </a:rPr>
              <a:t>自体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楷体_GB2312"/>
              </a:rPr>
              <a:t>2000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楷体_GB2312"/>
              </a:rPr>
              <a:t>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CA6D-9B30-4470-B681-95291DF923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572000" cy="60958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213372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楷体_GB2312"/>
              </a:rPr>
              <a:t>自体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楷体_GB2312"/>
              </a:rPr>
              <a:t>3000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  <a:ea typeface="楷体_GB2312"/>
              </a:rPr>
              <a:t>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6B1F-2C63-4BCC-A0E5-5ABB009647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9EC4-E293-4213-B836-0DD5C840117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C01-64FF-4802-8850-F661555FBB57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7D83-F0BB-4933-BDBB-4BD5662D7D2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96AD-DA7B-4BCF-BF94-FC1BB94CD4E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cc"/>
                </a:solidFill>
                <a:latin typeface="Tahoma"/>
                <a:ea typeface="仿宋_GB2312"/>
              </a:rPr>
              <a:t>术野血回输流程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仿宋_GB2312"/>
              </a:rPr>
              <a:t>负压    肝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</a:t>
            </a:r>
            <a:r>
              <a:rPr b="1" lang="zh-CN" sz="2000" spc="-1" strike="noStrike">
                <a:solidFill>
                  <a:srgbClr val="ffffff"/>
                </a:solidFill>
                <a:latin typeface="Tahoma"/>
                <a:ea typeface="仿宋_GB2312"/>
              </a:rPr>
              <a:t>吸引    盐水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回输 ← 滤过← 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仿宋_GB2312"/>
              </a:rPr>
              <a:t>浓缩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仿宋_GB2312"/>
              </a:rPr>
              <a:t>RB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术   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野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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滤过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血水贮存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离心分离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清洗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血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    </a:t>
            </a:r>
            <a:r>
              <a:rPr b="1" lang="zh-CN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凝块                                破碎红细胞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异物                                抗凝药、血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                                  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板游离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Hb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5E8-6066-425A-8A19-F8BD20EEF43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Tahoma"/>
                <a:ea typeface="隶书"/>
              </a:rPr>
              <a:t>一、自体血液回收的主要优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924680" cy="37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、避免输血传染病（艾滋病、肝炎、疟疾、梅毒等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、避免异体输血反应（免疫反应）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、减少血液浪费，缓解血源紧张问题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、解决特殊血型（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RH-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）的供血问题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、解决不接受异体输血的特殊宗教信仰者供血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75A1-2E1B-4CF9-82B9-54BC17FCDBC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、对大出血患者能快速回收，无量的限制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、使用方便、及时快捷，有利突发大出血又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备血病人的抢救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、有利于战伤、地震等突发事件使用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仿宋_GB2312"/>
              </a:rPr>
              <a:t>、节省开支，经济合算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隶书"/>
              </a:rPr>
              <a:t>10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</a:rPr>
              <a:t>、</a:t>
            </a:r>
            <a:r>
              <a:rPr b="1" i="1" lang="zh-CN" sz="2800" spc="-1" strike="noStrike" u="sng">
                <a:solidFill>
                  <a:srgbClr val="ff3300"/>
                </a:solidFill>
                <a:uFillTx/>
                <a:latin typeface="隶书"/>
              </a:rPr>
              <a:t>回收的自体血优于库存异体血</a:t>
            </a:r>
            <a:r>
              <a:rPr b="0" lang="zh-CN" sz="2800" spc="-1" strike="noStrike">
                <a:solidFill>
                  <a:srgbClr val="ff3300"/>
                </a:solidFill>
                <a:latin typeface="隶书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3A8F-A0CD-490A-A72D-CBCC033FBA9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卫生部：近几年全国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艾滋病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病例数每年增加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45%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以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——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中国保健与营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1331D-1C61-4B8E-ABFE-54A8635E161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Tahoma"/>
                <a:ea typeface="仿宋_GB2312"/>
              </a:rPr>
              <a:t>二 回收血中的血浆成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772400" cy="34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13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在离心清洗过程中，大部分血浆成分均被清除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  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、不同成分，清除率不同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  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、一般在血浆清除在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50-80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％以上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  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、离子成分与清洗液有关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  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4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、总蛋白、白蛋白、纤维蛋白原、凝血因子清除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756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率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80</a:t>
            </a: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％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7560" indent="-277560">
              <a:lnSpc>
                <a:spcPct val="13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隶书"/>
                <a:ea typeface="仿宋_GB2312"/>
              </a:rPr>
              <a:t>大量血液回收清洗时，应补充血浆成分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64A-7AD2-424D-BA07-EDAF2CF62A9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971640" y="620640"/>
            <a:ext cx="684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cc"/>
                </a:solidFill>
                <a:latin typeface="Tahoma"/>
                <a:ea typeface="仿宋_GB2312"/>
              </a:rPr>
              <a:t>三 术后感染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71640" y="2133720"/>
            <a:ext cx="777708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术后感染与输血呈正相关，且呈量效关系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国外统计资料表明：围术期的感染比例为：输血者２５％，未输血者４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5662-EC21-4A1B-8564-FE441C95633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774252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Tahoma"/>
                <a:ea typeface="隶书"/>
              </a:rPr>
              <a:t>四  库血与自体血的比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907920"/>
          <a:ext cx="8381880" cy="5585040"/>
        </p:xfrm>
        <a:graphic>
          <a:graphicData uri="http://schemas.openxmlformats.org/drawingml/2006/table">
            <a:tbl>
              <a:tblPr/>
              <a:tblGrid>
                <a:gridCol w="3352680"/>
                <a:gridCol w="2514600"/>
                <a:gridCol w="251460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库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自体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溶血反应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±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血小板减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过敏反应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－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血型输错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－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免疫抑制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－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传播疾病（肝炎、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AIDS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等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－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消耗费用（人力、物力、财力）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高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低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血源短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＋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－－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稀有血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不能解决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可解决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红细胞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2,3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－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DPG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含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低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高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1A4-8617-4ADC-9E26-31F636D9EA6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Tahoma"/>
                <a:ea typeface="隶书"/>
              </a:rPr>
              <a:t>库血与自体血的比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80880" y="1523880"/>
          <a:ext cx="8382240" cy="4571640"/>
        </p:xfrm>
        <a:graphic>
          <a:graphicData uri="http://schemas.openxmlformats.org/drawingml/2006/table">
            <a:tbl>
              <a:tblPr/>
              <a:tblGrid>
                <a:gridCol w="3353040"/>
                <a:gridCol w="2514600"/>
                <a:gridCol w="2514600"/>
              </a:tblGrid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库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自体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红细胞形态及运氧能力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异常、差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正常、好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红细胞变形性、聚集性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下降、增加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正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红细胞寿命及活力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缩短、差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正常、好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ffff"/>
                          </a:solidFill>
                          <a:latin typeface="Tahoma"/>
                          <a:ea typeface="仿宋_GB2312"/>
                        </a:rPr>
                        <a:t>抗酸缓冲力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差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好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3300"/>
                          </a:solidFill>
                          <a:latin typeface="Tahoma"/>
                          <a:ea typeface="仿宋_GB2312"/>
                        </a:rPr>
                        <a:t>抢救时间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慢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快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ff3300"/>
                          </a:solidFill>
                          <a:latin typeface="Tahoma"/>
                          <a:ea typeface="仿宋_GB2312"/>
                        </a:rPr>
                        <a:t>患者医疗费用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高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低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9CC-737C-4EAF-96F1-56622F23B08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临沂市人民医院南医疗区手术室自体血液回收机使用情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自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00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-----201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月使用以来，共使用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687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例，回收使用病人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965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例，回收血液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1448585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ml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，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约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1.5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吨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0C83-3DCF-4EE4-B13B-41742D0CE03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临沂市人民医院南医疗区手术室自体血液回收机使用情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01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---6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月，共使用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3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例，回收使用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6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例，共回收血液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106725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ml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以上病人无一例输血反应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080-F47C-44AE-A8BD-D773B7F6D7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南医疗区手术室自体血液回收机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例典型病人使用情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004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6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日，神经外科一例小脑脑血管畸形患者，男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岁，住院号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8716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，术中大出血，血液回收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62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罐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，共回收血液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155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毫升，术后一个月患者康复出院。（手术历时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7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个小时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13B5-F766-4B6D-8ED1-F4333337D9D9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南医疗区手术室自体血液回收机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2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例典型病人使用情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006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3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日，神经外科一例脑血管畸形患者，男，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岁，住院号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325167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，术中大出血，手术历时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3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小时，回收血液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42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罐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，回收血液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105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毫升，术后患者三个星期康复出院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24D3-0B58-433F-9308-B68BD016535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南医疗区手术室自体血液回收机回收血液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1000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毫升以上病人使用情况</a:t>
            </a:r>
            <a:br>
              <a:rPr sz="4000"/>
            </a:b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2004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、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8-----2007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、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、回收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0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毫升以上的患者共有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6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例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、回收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000---20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毫升的患者共有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6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75DA-E288-4DF3-9CCF-E725AEEB524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南医疗区手术室自体血液回收机回收血液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1000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毫升以上病人使用情况</a:t>
            </a:r>
            <a:br>
              <a:rPr sz="4000"/>
            </a:b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2008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、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1-----2010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、</a:t>
            </a: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1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、回收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0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毫升以上的患者共有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36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例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、回收血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000---20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毫升的患者共有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189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B5E-D8CC-403C-BCA5-A849DA0EF2A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卫生部：近几年每年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丙肝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和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梅毒</a:t>
            </a: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发     病率分别上升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30%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和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24%</a:t>
            </a: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以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7964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    ———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中国保健与营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C1BEE3-8682-453C-8848-DC9A7F0B37C3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南医疗区手术室自体血液回收机病人使用范围情况</a:t>
            </a:r>
            <a:r>
              <a:rPr b="0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（</a:t>
            </a:r>
            <a:r>
              <a:rPr b="0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2004——2007</a:t>
            </a:r>
            <a:r>
              <a:rPr b="0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57200" y="1905120"/>
          <a:ext cx="8229600" cy="4697280"/>
        </p:xfrm>
        <a:graphic>
          <a:graphicData uri="http://schemas.openxmlformats.org/drawingml/2006/table">
            <a:tbl>
              <a:tblPr/>
              <a:tblGrid>
                <a:gridCol w="682560"/>
                <a:gridCol w="781200"/>
                <a:gridCol w="728640"/>
                <a:gridCol w="753840"/>
                <a:gridCol w="754200"/>
                <a:gridCol w="755640"/>
                <a:gridCol w="754200"/>
                <a:gridCol w="755640"/>
                <a:gridCol w="753840"/>
                <a:gridCol w="755640"/>
                <a:gridCol w="754200"/>
              </a:tblGrid>
              <a:tr h="159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分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数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脑出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脑外伤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动脉瘤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血管畸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神外肿瘤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四肢骨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关节置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脊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普外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骨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使用例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7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回收例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6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82E9-8C8D-4F8A-B0E1-26A8A3125C5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南医疗区手术室自体血液回收机病人使用范围情况</a:t>
            </a:r>
            <a:r>
              <a:rPr b="0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（</a:t>
            </a:r>
            <a:r>
              <a:rPr b="0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2008——2010</a:t>
            </a:r>
            <a:r>
              <a:rPr b="0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1700280"/>
          <a:ext cx="8496360" cy="4653000"/>
        </p:xfrm>
        <a:graphic>
          <a:graphicData uri="http://schemas.openxmlformats.org/drawingml/2006/table">
            <a:tbl>
              <a:tblPr/>
              <a:tblGrid>
                <a:gridCol w="747720"/>
                <a:gridCol w="691920"/>
                <a:gridCol w="719280"/>
                <a:gridCol w="720720"/>
                <a:gridCol w="647640"/>
                <a:gridCol w="720720"/>
                <a:gridCol w="719280"/>
                <a:gridCol w="720720"/>
                <a:gridCol w="647640"/>
                <a:gridCol w="647640"/>
                <a:gridCol w="755640"/>
                <a:gridCol w="757440"/>
              </a:tblGrid>
              <a:tr h="15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分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数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脑出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脑外伤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动脉瘤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血管畸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神外肿瘤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四肢骨折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关节置换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脊柱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普外科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骨盆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心外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使用例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1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6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8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55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回收例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7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464E-1C73-44E5-B489-B6B373658C2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幼圆"/>
              </a:rPr>
              <a:t>2004—2007</a:t>
            </a: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幼圆"/>
              </a:rPr>
              <a:t>与</a:t>
            </a: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幼圆"/>
              </a:rPr>
              <a:t>2008---2010</a:t>
            </a: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幼圆"/>
              </a:rPr>
              <a:t>对比</a:t>
            </a:r>
            <a:br>
              <a:rPr sz="4000"/>
            </a:b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幼圆"/>
              </a:rPr>
              <a:t>神经外科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989000"/>
          <a:ext cx="8229600" cy="4302360"/>
        </p:xfrm>
        <a:graphic>
          <a:graphicData uri="http://schemas.openxmlformats.org/drawingml/2006/table">
            <a:tbl>
              <a:tblPr/>
              <a:tblGrid>
                <a:gridCol w="1019160"/>
                <a:gridCol w="934920"/>
                <a:gridCol w="1008360"/>
                <a:gridCol w="792000"/>
                <a:gridCol w="817560"/>
                <a:gridCol w="914400"/>
                <a:gridCol w="914400"/>
                <a:gridCol w="914400"/>
                <a:gridCol w="9144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病种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使用血液回收例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回收例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大于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毫升的例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—20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毫升的例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脑外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71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6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脑出血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动脉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6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9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血管畸形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脑良性肿瘤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7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45EF-27B9-4B94-AD85-CAD2A52A20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幼圆"/>
              </a:rPr>
              <a:t>2004—2007</a:t>
            </a: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幼圆"/>
              </a:rPr>
              <a:t>与</a:t>
            </a: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幼圆"/>
              </a:rPr>
              <a:t>2008---2010</a:t>
            </a: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幼圆"/>
              </a:rPr>
              <a:t>对比</a:t>
            </a:r>
            <a:br>
              <a:rPr sz="4000"/>
            </a:br>
            <a:r>
              <a:rPr b="1" lang="zh-CN" sz="4000" spc="-1" strike="noStrike">
                <a:solidFill>
                  <a:srgbClr val="ffcc00"/>
                </a:solidFill>
                <a:latin typeface="Tahoma"/>
                <a:ea typeface="幼圆"/>
              </a:rPr>
              <a:t>创伤外科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905120"/>
          <a:ext cx="8229600" cy="4398840"/>
        </p:xfrm>
        <a:graphic>
          <a:graphicData uri="http://schemas.openxmlformats.org/drawingml/2006/table">
            <a:tbl>
              <a:tblPr/>
              <a:tblGrid>
                <a:gridCol w="946080"/>
                <a:gridCol w="882720"/>
                <a:gridCol w="914400"/>
                <a:gridCol w="914400"/>
                <a:gridCol w="914400"/>
                <a:gridCol w="914400"/>
                <a:gridCol w="914400"/>
                <a:gridCol w="914400"/>
                <a:gridCol w="914400"/>
              </a:tblGrid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病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使用血液回收例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回收例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大于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毫升的例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0—20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毫升的例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普外手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脊柱手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5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骨盆手术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四肢骨折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关节置换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心外科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00"/>
                          </a:solidFill>
                          <a:latin typeface="Tahoma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D203-ED59-4968-9E3D-5867EAE99C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七年来使用的体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我们的医生由不接受→怀疑→犹豫→能够接受使用→正常使用→主动使用的过程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自体血回收解决了几百例危重病人，使病人顺利康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我们在手术过程中也曾经遇到过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RH(-)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抢救病人过程中增加了我们护理人员工作量，减轻了化验室工作同仁的工作量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手术医生做手术过程中不必担心输血血源问题，手术技巧化日趋完善，同类手术手术时间缩短，回收血液减少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224-ED1E-4F9B-802A-7D1F40DE47E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Tahoma"/>
                <a:ea typeface="仿宋_GB2312"/>
              </a:rPr>
              <a:t>血液回收抢救大出血病人的经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32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、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宗旨：及时回收失血及时补充，稳定循环，给外科赢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得抢救时间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、当出血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3000ml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以上，术中出血不止，进展困难，应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   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时肝素化回收血液。回收血经储血器过滤后，快速离心、清洗，清洗液使用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500ml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即可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3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、外科出血未止，不必补充凝血成分，以免影响体外回收罐血液发生凝集。外科止血完成后，全程血液回收。正规清洗，并补充各种需要的凝血成分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F8DD-3618-4A15-A29F-9F280ACED66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Tahoma"/>
                <a:ea typeface="仿宋_GB2312"/>
              </a:rPr>
              <a:t>血液回收抢救大出血病人的经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49600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、大出血经过多次清洗后，应注意补充胶体液蛋白或血浆，防止组织水肿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、所有大出血病人止血后，一定要查凝血成分和凝血功能，缺什么补什么，必要是给予一定量的鱼精蛋白中和肝素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、外科出血止住后，仍不断渗血，除采取上述止血措施外，要查有无输异体血造成的出血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7</a:t>
            </a:r>
            <a:r>
              <a:rPr b="1" lang="zh-CN" sz="2400" spc="-1" strike="noStrike">
                <a:solidFill>
                  <a:srgbClr val="ffffff"/>
                </a:solidFill>
                <a:latin typeface="隶书"/>
                <a:ea typeface="仿宋_GB2312"/>
              </a:rPr>
              <a:t>、及时补充血小板、冷沉淀、血浆，或输大量当天新鲜全血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79D-1AB7-448C-9B26-5F8B3022002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Tahoma"/>
                <a:ea typeface="仿宋_GB2312"/>
              </a:rPr>
              <a:t>血液回收抢救大出血病人的经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、机体对血小板的代偿能力较强，当回收的浓缩血细胞的量超过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3000ml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时，或血小板计数低于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50--80×10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ahoma"/>
                <a:ea typeface="仿宋_GB2312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/L 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时应补充适量的血小板，但价格较贵。新鲜冷冻血浆和血小板在止血期给予效果较好。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仿宋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E864-CCA1-4F42-B270-7EFA5F1CFCF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Tahoma"/>
                <a:ea typeface="仿宋_GB2312"/>
              </a:rPr>
              <a:t>血液回收抢救大出血病人的经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、当手术中大出血或开腹后大量血液在储存罐里不能及时清洗时，血液肝素化的同时，必要准备两个储血罐串联，防止血液不必要的浪费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635280" y="3573360"/>
            <a:ext cx="914400" cy="1214640"/>
          </a:xfrm>
          <a:prstGeom prst="can">
            <a:avLst>
              <a:gd name="adj" fmla="val 25000"/>
            </a:avLst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48360" y="5084640"/>
            <a:ext cx="914400" cy="1297080"/>
          </a:xfrm>
          <a:prstGeom prst="can">
            <a:avLst>
              <a:gd name="adj" fmla="val 17638"/>
            </a:avLst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51280" y="4437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35640" y="5881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40360" y="4581360"/>
            <a:ext cx="1214280" cy="73368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48360" y="4508640"/>
            <a:ext cx="852480" cy="852480"/>
          </a:xfrm>
          <a:custGeom>
            <a:avLst/>
            <a:gdLst>
              <a:gd name="textAreaLeft" fmla="*/ 244440 w 852480"/>
              <a:gd name="textAreaRight" fmla="*/ 730440 w 852480"/>
              <a:gd name="textAreaTop" fmla="*/ 491040 h 852480"/>
              <a:gd name="textAreaBottom" fmla="*/ 730440 h 8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51280" y="30686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cccc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B885-97FE-4BFB-AE3E-41E34001F4F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Tahoma"/>
                <a:ea typeface="仿宋_GB2312"/>
              </a:rPr>
              <a:t>血液回收抢救大出血病人的经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出血凶猛时可添加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~2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条负压吸引管，或备用两套吸引器，以防血液丢失浪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1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、对于大出血病人和小儿患者，清洗液选择乳酸林格液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500—1000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毫升，一般不使用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0.9%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氯化钠溶液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2D8-BD63-4170-931B-59D7A81C1AE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2007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年北京东城法院审理了一起北京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名血头组织他人冒充贫困大学生非法卖血案件。他们为在京各单位卖血，每人每次收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6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元，血头拿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3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元，卖血者拿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3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元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2007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年揭出：广东揭阳血霸控制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600“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血奴”卖血，卖血人大多来自江西、四川、湖南贫困山区。他们每人每月卖血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－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6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次，每次抽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400ml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，卖血全由血霸安排，大血头每月获利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万元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1BF-E224-49C6-8069-BCC72EC4D71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50920" y="549360"/>
            <a:ext cx="86630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cc"/>
                </a:solidFill>
                <a:latin typeface="Tahoma"/>
                <a:ea typeface="仿宋_GB2312"/>
              </a:rPr>
              <a:t>大量实践证明：用自己的血最安全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自体血液回收利用，不仅是医学科学的一大进步，也是人类文明的必然趋势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仿宋_GB2312"/>
              </a:rPr>
              <a:t>大力提倡自体血液回收，有利于健康，有利于患者，有利于人民，有利于国家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BF3-4EA6-48E9-914A-8020C1CCA2E5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仿宋_GB2312"/>
              </a:rPr>
              <a:t>          </a:t>
            </a: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仿宋_GB2312"/>
              </a:rPr>
              <a:t>谢谢聆听</a:t>
            </a:r>
            <a:br>
              <a:rPr sz="5400"/>
            </a:br>
            <a:r>
              <a:rPr b="1" lang="zh-CN" sz="5400" spc="-1" strike="noStrike">
                <a:solidFill>
                  <a:srgbClr val="ffff00"/>
                </a:solidFill>
                <a:latin typeface="Tahoma"/>
                <a:ea typeface="仿宋_GB2312"/>
              </a:rPr>
              <a:t>   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仿宋_GB2312"/>
              </a:rPr>
              <a:t>             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仿宋_GB2312"/>
              </a:rPr>
              <a:t>2011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仿宋_GB2312"/>
              </a:rPr>
              <a:t>7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  <a:ea typeface="仿宋_GB2312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703A-22F3-4B8A-AA99-1DB4A97A870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928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2007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年由于临床应用广东佰易药业有限公司生产的“免疫球蛋白”使患者出现丙肝抗体阳性事件。调查发现：广东佰易采血浆站存在问题。来这里职业卖血人每日有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1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多人，有的居住在附近，职业卖血长达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年，每周去卖两次血，采浆站完全由佰易药业公司管理，每年采浆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3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－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吨。站里工作的基本是临时工，大多没有经过专业培训，临时工工资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80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元／月，一袋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500ml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，血站仅给卖血者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80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仿宋_GB2312"/>
              </a:rPr>
              <a:t>元钱，剩下全部是企业所得，利润高得惊人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E9E7-B5F0-4505-B1BC-F94145A6EA0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853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仿宋_GB2312"/>
              </a:rPr>
              <a:t>输血感染赔偿案例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仿宋_GB2312"/>
              </a:rPr>
              <a:t>（</a:t>
            </a:r>
            <a:r>
              <a:rPr b="0" lang="zh-CN" sz="2400" spc="-1" strike="noStrike">
                <a:solidFill>
                  <a:srgbClr val="ff3300"/>
                </a:solidFill>
                <a:latin typeface="Tahoma"/>
              </a:rPr>
              <a:t>违反献血法有关规定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2000.12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东风汽车公司总医院输血感染丙肝，医院被判赔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  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偿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4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万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2001.11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徐州一产妇输血感染丙肝，医院被判赔偿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19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万     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2001.4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河南太康县医院给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岁儿童输血感染艾滋病案赔        偿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51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万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2001.9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全国首例因输血全家感染艾滋病案，赔偿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68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万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2002.5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安徽蒙城某医院产科出血输血感染丙肝，被判赔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偿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70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万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※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2005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年江苏吴县市因输血全家感染艾滋病，索赔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1300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  <a:ea typeface="仿宋_GB2312"/>
              </a:rPr>
              <a:t>万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7AAA-E590-4A8D-82C7-F560042CFC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内蒙古清水河县一例因输血感染艾滋病毒死亡的患者家属，获</a:t>
            </a: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47</a:t>
            </a: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万元赔偿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   </a:t>
            </a: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健康报报导：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江苏吴县市因输血全家感染艾滋病案要求索赔</a:t>
            </a: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1300</a:t>
            </a: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万元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2006</a:t>
            </a: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年，黑龙江北安建设农场</a:t>
            </a: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16</a:t>
            </a: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名因输血感染艾滋病患者，要求医院赔偿</a:t>
            </a: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3000</a:t>
            </a:r>
            <a:r>
              <a:rPr b="1" lang="zh-CN" sz="2600" spc="-1" strike="noStrike">
                <a:solidFill>
                  <a:srgbClr val="ffffff"/>
                </a:solidFill>
                <a:latin typeface="Tahoma"/>
                <a:ea typeface="仿宋_GB2312"/>
              </a:rPr>
              <a:t>余万元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1106-5DEA-4558-AF92-BD00E054063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  <a:ea typeface="仿宋_GB2312"/>
              </a:rPr>
              <a:t>据卫生部和专家预测：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21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世纪，我国将同时进入</a:t>
            </a: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仿宋_GB2312"/>
              </a:rPr>
              <a:t>血源性传播疾病和性传播疾病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仿宋_GB2312"/>
              </a:rPr>
              <a:t>为主要传染病种期！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5AD-0BB1-4B52-B33E-C54EFB4307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68360" y="2421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0033"/>
              </a:buClr>
              <a:buSzPct val="12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c"/>
                </a:solidFill>
                <a:latin typeface="楷体_GB2312"/>
                <a:ea typeface="楷体_GB2312"/>
              </a:rPr>
              <a:t>是指用血液回收装置，将病人体腔积血、手术中失血及术后引流血液进行处理，然后回输给病人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zh-CN" sz="5400" spc="-1" strike="noStrike">
                <a:solidFill>
                  <a:srgbClr val="00ffcc"/>
                </a:solidFill>
                <a:latin typeface="Tahoma"/>
                <a:ea typeface="仿宋_GB2312"/>
              </a:rPr>
              <a:t>自体血回输的定义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E04B-13DC-4259-8176-22072D7DAA8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4T02:06:16Z</dcterms:created>
  <dc:creator>临沂市人民医院南医疗区手术室</dc:creator>
  <dc:description/>
  <dc:language>en-US</dc:language>
  <cp:lastModifiedBy>微软用户</cp:lastModifiedBy>
  <cp:lastPrinted>2001-03-01T09:30:07Z</cp:lastPrinted>
  <dcterms:modified xsi:type="dcterms:W3CDTF">2011-07-15T14:46:17Z</dcterms:modified>
  <cp:revision>299</cp:revision>
  <dc:subject/>
  <dc:title>自体血液回收机的临床应用</dc:title>
</cp:coreProperties>
</file>